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AED-6CE8-454B-AEB9-96B02FF2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87E-AF11-47DD-8132-DB034B4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35A-1928-436B-A837-2CF78ADE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B31-91DB-4577-9A92-BF73211D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70C5-80A9-4FD5-BB32-3F80FBA1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9EF1-3F7B-4078-A9BB-E2EEB601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3209-400B-432A-ABCE-8C3F7A8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5C6B-12CF-4F2B-876D-2F13335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213D-A155-4C4E-A225-367597D6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71DE-8BCC-47FB-B2E2-8F24DEE9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F05C-8FC4-4213-8D3B-2B3063E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FCD-395E-4FDC-A845-E348D42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9AFD-A105-490A-8DED-D757A8FA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DA49-623D-4BB0-854B-A6393237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0019-48F1-4BB6-AE0F-C740044B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707C-0716-41AD-BC5A-5C8E4F76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C6C8-2CFF-4E20-9C89-6FADF003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559C-00C1-4234-B5DE-8E1F177E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7925-3D85-4ADD-A8C0-DC0534F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FF06-3C72-47CC-8F68-1C6822E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A7C6-E381-4C3D-B93B-08B24FB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53DA-075D-4229-95DE-9DFE3959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AA5-3707-4C07-BC9E-E572B01D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2718-1ED1-43CD-825C-D1D37727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93E3-9A9B-4F46-884A-7A3E1C5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01B4-5D92-472A-9E06-69BDAB8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B75E-B4EF-4F63-8579-5A5A9BA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EFC6-5E73-43F0-B219-DF09585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414D-C5DC-4D90-9AAD-4DA00BAC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66CB-51EC-4F2E-93BE-D60A5355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6998-E079-4E44-A3C2-2F3691BD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0211-C696-4DE6-83CD-66C6E432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9779-693F-4B13-8BC5-5501D7F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E78-1517-4145-A47F-5C4EBB9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AD19F-8236-4E43-9E51-2D6609B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25D6-F2EE-4E12-9091-449AD307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B0BF-59E9-437C-A3D0-563FC80A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F1AE4-E867-4867-817A-AED1A4C7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C5E6-C553-4B9B-8F86-38BF400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9D16-3DD8-4021-984B-89AAEDC4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81C98-CD80-4258-9183-841B4289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81B1-5BB1-4548-8AD3-3A19CC0B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C9EB-942C-4ACB-9B0A-5EE36552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91B-F01E-4007-82BB-9EED57F3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E85-E8D9-4BE1-ACDE-890E78F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E5F-55FD-476E-97E2-406BB56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C8F-42F4-4104-B0CF-011143B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AC-B25E-45D1-BC81-04527B4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4F5A-A1E7-42AA-B38B-7291431F3D17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320A-A58C-46F1-91BF-846BF98FB396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09A-53FD-4082-B8E8-EF4486A62855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85D-C3E4-4E67-BCD5-0204DEEC777C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3768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nstantia"/>
              </a:rPr>
              <a:t>Aplicatia Sanako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EARE CONT TU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14240" y="1935000"/>
            <a:ext cx="70725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ME CO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631512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EARE CLA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9580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ME CLA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LEGERE ACTIVITATE – ALEGERE FISIE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ANSMITERE FISI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857240" y="1828800"/>
            <a:ext cx="55724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IMIRE FISIER STU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ESIRE DIN CO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9:40:53Z</dcterms:created>
  <dc:creator>admin2</dc:creator>
  <dc:description/>
  <dc:language>en-US</dc:language>
  <cp:lastModifiedBy>User</cp:lastModifiedBy>
  <dcterms:modified xsi:type="dcterms:W3CDTF">2012-02-11T11:08:51Z</dcterms:modified>
  <cp:revision>4</cp:revision>
  <dc:subject/>
  <dc:title>Diapozitivul 1</dc:title>
</cp:coreProperties>
</file>